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E93-017A-47B1-AC0D-405C3944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EE4-F247-4312-9693-88DA22D5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C5C-7E7D-4970-8542-52901EFB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75F-3F61-411B-92AB-B40604C4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EB17-0ABD-4F2F-B15C-A4C272A9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E2E8-9597-49D9-9AC6-F3A06B10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DAD1-BBBE-4150-8BB9-F8632E27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A67B-AB1A-4BCE-8312-5F3DF9E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14E9-6528-445D-8A72-B5A43ED4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5FE9-065D-41BD-9BF3-1DB7FA38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84B8-0696-402E-B9BC-3DFDBDB5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3C9-54D7-44E7-A779-9F7AFEDF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A9C8-556A-433A-A0B4-93A8E0E0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7284-65F2-4036-9008-5FA6B82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935B-9032-4E79-A735-EAE7E684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E1CF-D454-4240-BBAE-2C789FAA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7E57-9B0F-4E30-BA9B-02DB7D8F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E5D0-454D-4738-8DD7-4EFEC517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BAB3-B484-4D15-B38D-3652636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31F1F-AF7E-4CE5-A5DF-22D0FEDB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DF61-6D1E-4234-9BC1-BD5984E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1CCD-1A48-4A0E-A887-24E0305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14E-6808-45CE-B9E5-5974AAD8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BB3F-3A50-4F90-A29B-4ACDBE6B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EE18-8058-4237-A1A5-E3D6CDA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5C06-6E5E-4D1F-A429-6A028C5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C5F0-19E7-4067-96A9-01898F2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4536-B107-4ADF-9D88-01C4C0DE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7FDD-58EC-4835-8D65-79DD521D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BC37-54F4-47B3-812B-83F619DB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9FAA-D9E8-47CE-B127-9F6A6D4B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E501-49F5-4B3D-A12D-BE218B97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EF314-0AA8-4A44-89E7-F984A0B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52E-0079-499D-8602-A445ECD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D60A2-5188-4673-9C9D-CE5AC60A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CA98-5615-4BFE-B067-C5D75DDB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0223-D1FC-4B17-8B21-43B81BED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B3D2-4149-4053-AA6B-DB2A3ABB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214F-4439-45AA-99F1-F1E84C83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2932-9649-46C4-9FE4-F9706E1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07DC-1F4C-4E75-A0C6-DEB2FCD8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7271-CCBE-4DEE-B3A0-316BA7D8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276C6-7706-4B47-B2E9-13503063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0BE-2810-47E8-9AEC-5A56D46F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BC7-2B3C-49C9-A230-48A2EFF0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B5C-501C-44A9-A344-A8B5BAF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B08-0A4A-4A7C-A798-95DAA27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91E-285F-4472-8666-B2B18042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44B-3F52-4036-84A3-AB0B6972C13E}" type="slidenum">
              <a:rPr b="0" lang="ru-RU" sz="12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25FB-4699-48AA-B457-8490C36E333F}" type="slidenum">
              <a:rPr b="0" lang="ru-RU" sz="1200" spc="-1" strike="noStrike">
                <a:solidFill>
                  <a:srgbClr val="d1eaee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6095-D2F4-4D42-B830-67FF75ACCB8E}" type="slidenum">
              <a:rPr b="0" lang="ru-RU" sz="1200" spc="-1" strike="noStrike">
                <a:solidFill>
                  <a:srgbClr val="d1eaee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0FAC-5BEB-4A22-BEAA-47A602429DA9}" type="slidenum">
              <a:rPr b="0" lang="ru-RU" sz="12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814392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786360" y="4642920"/>
            <a:ext cx="21430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ыполнили: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ветличная В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Иванченко М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реподаватель: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Шевченко  Л.К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97" name="Picture 5" descr="6204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WordArt 7"/>
          <p:cNvSpPr txBox="1"/>
          <p:nvPr/>
        </p:nvSpPr>
        <p:spPr>
          <a:xfrm>
            <a:off x="1187280" y="1197000"/>
            <a:ext cx="662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Ворскла: вчера и сегодня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1835280" y="476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следовательская рабо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WordArt 11"/>
          <p:cNvSpPr txBox="1"/>
          <p:nvPr/>
        </p:nvSpPr>
        <p:spPr>
          <a:xfrm>
            <a:off x="684360" y="4941720"/>
            <a:ext cx="4535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,милая Ворскла, жемчужина детства!</a:t>
            </a:r>
            <a:endParaRPr b="0" lang="en-US" sz="9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ы, в памяти подвиги предков храня,</a:t>
            </a:r>
            <a:endParaRPr b="0" lang="en-US" sz="9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м тем ,что сыны получили в наследство,</a:t>
            </a:r>
            <a:endParaRPr b="0" lang="en-US" sz="9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скромной красою, чаруешь меня.</a:t>
            </a:r>
            <a:endParaRPr b="0" lang="en-US" sz="9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5364000" y="3500280"/>
            <a:ext cx="378000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ванченко Мари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ца 8 «б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: Шевч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дия Константино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географии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овчинской средней общеобразовательной школы с углублённым изуч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6"/>
          <p:cNvSpPr txBox="1"/>
          <p:nvPr/>
        </p:nvSpPr>
        <p:spPr>
          <a:xfrm rot="21104400">
            <a:off x="179280" y="189000"/>
            <a:ext cx="8163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ганолептические свойства воды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slide0044_image048"/>
          <p:cNvPicPr/>
          <p:nvPr/>
        </p:nvPicPr>
        <p:blipFill>
          <a:blip r:embed="rId1"/>
          <a:stretch/>
        </p:blipFill>
        <p:spPr>
          <a:xfrm>
            <a:off x="611280" y="981000"/>
            <a:ext cx="3546360" cy="4892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slide0044_image046"/>
          <p:cNvPicPr/>
          <p:nvPr/>
        </p:nvPicPr>
        <p:blipFill>
          <a:blip r:embed="rId2"/>
          <a:stretch/>
        </p:blipFill>
        <p:spPr>
          <a:xfrm>
            <a:off x="4932360" y="981000"/>
            <a:ext cx="325584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2411280" y="549360"/>
            <a:ext cx="3745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ве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03280" y="3645000"/>
          <a:ext cx="6046920" cy="1727280"/>
        </p:xfrm>
        <a:graphic>
          <a:graphicData uri="http://schemas.openxmlformats.org/drawingml/2006/table">
            <a:tbl>
              <a:tblPr/>
              <a:tblGrid>
                <a:gridCol w="3024360"/>
                <a:gridCol w="30225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бо-желт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ичнев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ло-желт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о-коричнев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т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нсивно-желт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Line 19"/>
          <p:cNvSpPr/>
          <p:nvPr/>
        </p:nvSpPr>
        <p:spPr>
          <a:xfrm>
            <a:off x="4427640" y="98100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Picture 4" descr="p000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5"/>
          <p:cNvSpPr txBox="1"/>
          <p:nvPr/>
        </p:nvSpPr>
        <p:spPr>
          <a:xfrm>
            <a:off x="4211640" y="476280"/>
            <a:ext cx="3240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у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771640" y="270828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зрачная   слабомутная   мутная  очень му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 flipH="1">
            <a:off x="3780000" y="981000"/>
            <a:ext cx="86328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5219280" y="907920"/>
            <a:ext cx="7308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6084720" y="765000"/>
            <a:ext cx="50328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6732720" y="836640"/>
            <a:ext cx="1152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Picture 4" descr="6204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1979640" y="981000"/>
            <a:ext cx="489600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зра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755640" y="549360"/>
            <a:ext cx="7632720" cy="35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пах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11280" y="3141720"/>
          <a:ext cx="8229600" cy="3332160"/>
        </p:xfrm>
        <a:graphic>
          <a:graphicData uri="http://schemas.openxmlformats.org/drawingml/2006/table">
            <a:tbl>
              <a:tblPr/>
              <a:tblGrid>
                <a:gridCol w="2157480"/>
                <a:gridCol w="60721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запа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хи соответствующего ря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ома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уречный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о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листый, тинис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илос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кальный, навозный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еве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крой щепы, древесной к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лист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лый, свежевспаханной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есн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х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ы, рыбьего ж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вянис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а, скошенной тра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7" name="Picture 4" descr="DSC01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248" name="WordArt 5"/>
          <p:cNvSpPr txBox="1"/>
          <p:nvPr/>
        </p:nvSpPr>
        <p:spPr>
          <a:xfrm>
            <a:off x="1187280" y="476280"/>
            <a:ext cx="6985080" cy="10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ешний вид водного объ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7" descr="359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1" name="WordArt 10"/>
          <p:cNvSpPr txBox="1"/>
          <p:nvPr/>
        </p:nvSpPr>
        <p:spPr>
          <a:xfrm>
            <a:off x="1116000" y="620640"/>
            <a:ext cx="74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е время настало,  ребят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ную природу беречь и любит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дь для каждого очень важно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на нашей планете жит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11"/>
          <p:cNvSpPr txBox="1"/>
          <p:nvPr/>
        </p:nvSpPr>
        <p:spPr>
          <a:xfrm>
            <a:off x="900000" y="3933720"/>
            <a:ext cx="784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, как радость, нужны и понят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ум лесов и ручьев,  хлопотливая реч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к давайте же вместе,  ребят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ную природу беречь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DSC01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2195640" y="692280"/>
            <a:ext cx="456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8"/>
          <p:cNvSpPr txBox="1"/>
          <p:nvPr/>
        </p:nvSpPr>
        <p:spPr>
          <a:xfrm>
            <a:off x="1763640" y="260280"/>
            <a:ext cx="655344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чники загрязнения 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340000" y="3500280"/>
            <a:ext cx="62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55640" y="227664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0" name="Picture 4" descr="PA1903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5"/>
          <p:cNvSpPr txBox="1"/>
          <p:nvPr/>
        </p:nvSpPr>
        <p:spPr>
          <a:xfrm>
            <a:off x="2050920" y="765000"/>
            <a:ext cx="561996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очные воды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харного завода "Большевик"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04" name="Picture 7" descr="16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8"/>
          <p:cNvSpPr txBox="1"/>
          <p:nvPr/>
        </p:nvSpPr>
        <p:spPr>
          <a:xfrm>
            <a:off x="250920" y="260280"/>
            <a:ext cx="5545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Актуальность работы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06" name="Rectangle 9"/>
          <p:cNvSpPr/>
          <p:nvPr/>
        </p:nvSpPr>
        <p:spPr>
          <a:xfrm flipV="1" rot="10831800">
            <a:off x="1042560" y="3572640"/>
            <a:ext cx="71312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 - ценнейший природный ресурс. Она играет исключительную роль в процессах обмена веществ, составляющих основу жизни. Огромное значение вода имеет в промышленном и сельскохозяйственном производстве. Общеизвестна необходимость ее для бытовых потребностей человека, всех растений и животных. Для многих живых существ она служит средой обита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6156360" y="260280"/>
            <a:ext cx="2663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лубая моя, голуб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дивительных красок во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не хотелось к тебе – губ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 не пробовала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не в ладони тебя бы , мне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ги вызолотить песок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могла, потому что не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 моих опрокинулось н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6"/>
          <p:cNvSpPr txBox="1"/>
          <p:nvPr/>
        </p:nvSpPr>
        <p:spPr>
          <a:xfrm>
            <a:off x="1403280" y="836640"/>
            <a:ext cx="5108760" cy="28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брос мус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5"/>
          <p:cNvSpPr txBox="1"/>
          <p:nvPr/>
        </p:nvSpPr>
        <p:spPr>
          <a:xfrm>
            <a:off x="1835280" y="189000"/>
            <a:ext cx="47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ыв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673200" y="92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935000"/>
          <a:ext cx="8229600" cy="398952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ве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жел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т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му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зр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нс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ень слабый, не привлекающий внимания  потреб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ры, мас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8" name="Picture 4" descr="16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WordArt 5"/>
          <p:cNvSpPr txBox="1"/>
          <p:nvPr/>
        </p:nvSpPr>
        <p:spPr>
          <a:xfrm>
            <a:off x="1692360" y="189000"/>
            <a:ext cx="61196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екоменд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042920" y="306936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лагаем силами учащихся Головчинской СОШ с УИОП провести очистку побережья реки Ворсклы от бытового му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базе школы организовать «Голубые патрули» для отслеживания состояния качества воды, изучения флоры и фау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инновационные разработки использования очистных сооружений сахарного комбината «Большев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опускать попадания сточных вод в реку Лозовая, а из нее в Ворск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тимонов Н. А. Природа Белгородской области. Книжное издательство. 1959 – 293 с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Белгородоведение  (Текст): учебник для общеобразовательных учреждений /под редакцией В. А. Шаповалова. – Белгород: Издательство БелГУ. - 2002. – 410 с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Григорьев Г. Н. География Белгородской области. Издательство БГУ. 1996 – 143с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Мансуров С. Е., Кокуева Г.Н. Школьный практикум. Следим за окружающей средой нашего города. Москва. 2001 – 111 с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Петин А. Н. Малые водные объекты и их экологическое состояние. Белгород. 2005  – 238 с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Комитет экологии и природных ресурсов Белгородской области. Доклад о состоянии окружающей природной среды Белгородской области в 2005 году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Летопись села Головчино (архивные данные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476360" y="549360"/>
            <a:ext cx="6120000" cy="12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ая литература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7"/>
          <p:cNvSpPr txBox="1"/>
          <p:nvPr/>
        </p:nvSpPr>
        <p:spPr>
          <a:xfrm rot="597600">
            <a:off x="1979280" y="0"/>
            <a:ext cx="46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работы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95280" y="2060640"/>
            <a:ext cx="84247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e2d7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явить легенды о названии  нашей реки Ворс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e2d7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ть оценку состояния реки Ворс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e2d7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9"/>
          <p:cNvSpPr txBox="1"/>
          <p:nvPr/>
        </p:nvSpPr>
        <p:spPr>
          <a:xfrm>
            <a:off x="755640" y="476280"/>
            <a:ext cx="67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 исследования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50920" y="3500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1)Провести сбор литературного материала по данной проблеме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2)Определить источники воздействия и выявить причины ухудшения качества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bf5f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Предложить пути решения данн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68360" y="1628640"/>
            <a:ext cx="83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539640" y="476280"/>
            <a:ext cx="7869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 исследования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50920" y="3213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Ворскла – это основной водный объект села Головчино, то соответствует ли она стандартам водных объектов реги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611280" y="47628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кт исследования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593280" y="4005360"/>
            <a:ext cx="777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вная река Грайворонщины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ка Ворс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684360" y="1125360"/>
          <a:ext cx="5616360" cy="539460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к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Рождественское Ивнянского рай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ье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Дне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длина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реки в пределах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 до 4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ина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2,5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мерзает р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вая половина декаб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щина ль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50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тание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шанное 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жим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более полноводна весной, межень – конец лета-начало ос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крывается р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орая половина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84360" y="6524640"/>
          <a:ext cx="5616360" cy="365040"/>
        </p:xfrm>
        <a:graphic>
          <a:graphicData uri="http://schemas.openxmlformats.org/drawingml/2006/table">
            <a:tbl>
              <a:tblPr/>
              <a:tblGrid>
                <a:gridCol w="2809800"/>
                <a:gridCol w="280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ость течения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-0,2 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137"/>
          <p:cNvSpPr/>
          <p:nvPr/>
        </p:nvSpPr>
        <p:spPr>
          <a:xfrm>
            <a:off x="1476360" y="260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рактеристика реки Ворс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1332000" y="47628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ё назвали Ворскл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1476360" y="-458640"/>
            <a:ext cx="532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л однажды Петр по речке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отрел куда-то вда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кораблик покачну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нил стекло он в гладь.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проклятием сказал о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отныне вором скла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тех пор всегда-всегда Ворс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а вором ск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а стекла во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наверное, их съе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4570560" y="2203560"/>
          <a:ext cx="9212400" cy="426960"/>
        </p:xfrm>
        <a:graphic>
          <a:graphicData uri="http://schemas.openxmlformats.org/drawingml/2006/table">
            <a:tbl>
              <a:tblPr/>
              <a:tblGrid>
                <a:gridCol w="5943600"/>
                <a:gridCol w="3268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41:10Z</dcterms:created>
  <dc:creator>USER</dc:creator>
  <dc:description/>
  <dc:language>en-US</dc:language>
  <cp:lastModifiedBy>SamLab.ws</cp:lastModifiedBy>
  <dcterms:modified xsi:type="dcterms:W3CDTF">2004-02-07T07:38:56Z</dcterms:modified>
  <cp:revision>36</cp:revision>
  <dc:subject/>
  <dc:title>Ворскла: вчера и сегодня</dc:title>
</cp:coreProperties>
</file>